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4FF-92C4-4C9B-AC8A-1363608C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8CD8-62C5-4228-8083-8D841040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CE19-53B2-4C8D-903C-23E3D77C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8B1-1CAB-4C72-843D-2DCA8BD6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B292-8128-4442-AD0B-EF26FDA7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E2A6-5512-4ED2-8480-4AAD657E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2C12-EF69-4E3A-A71B-92F3061B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FEB-9E50-4E5A-BC1D-9D03E107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9D1-FA84-42E6-9597-2B18D899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9C8-D496-41BE-960F-CDBA662F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3CA-1A43-4138-A812-5CF12AD7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115-5758-4907-B0B1-323628C1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C369-24D2-49D1-AE6F-49AC3647BAA9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iver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ong Pro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ng prof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river, it is steeper near the source, where there is a lot more material for the river to cut through to reach its base leve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you go further down the river it has cut further down towards base level and is beginning to cut laterally (sideways) as wel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lope angle of the river decreas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the time you reach the lower stages of the river it almost flows over a flat surface, as i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ander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s way towards the s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 Typical Pro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eduonlinelive.co.uk/Images/Interlocking-Spurs.png"/>
          <p:cNvPicPr/>
          <p:nvPr/>
        </p:nvPicPr>
        <p:blipFill>
          <a:blip r:embed="rId1"/>
          <a:stretch/>
        </p:blipFill>
        <p:spPr>
          <a:xfrm>
            <a:off x="1908000" y="1258920"/>
            <a:ext cx="540072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ross Pro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oss profi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river channel changes throughout the course of the riv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upper section the channel tends to be quite narrow, and comparatively dee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ttom and sides are littered with many boulders and rocks, causing a great deal of friction for the water flowing past th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ows the water down and means that this is where the river is flowing the slow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ross Pro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n the mid course of the river has a wider channel, which is deeper than the one in the upper reaches, and the water flows faster, as it has less material to slow it down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river may begin to meander in this section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lower course sees the river flowing at its fastest until it slows down when it meets the sea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channel is very wide, deep in places where the water is flowing quickest, and smooth side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iver Profiles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237200"/>
        </p:xfrm>
        <a:graphic>
          <a:graphicData uri="http://schemas.openxmlformats.org/drawingml/2006/table">
            <a:tbl>
              <a:tblPr/>
              <a:tblGrid>
                <a:gridCol w="1378080"/>
                <a:gridCol w="1873080"/>
                <a:gridCol w="2519280"/>
                <a:gridCol w="2459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pper Co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ddle Co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er Co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g Pro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ply sloping towards the lower sections of the riv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llow slopes towards the mouth of the riv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most at sea level, very gently sloping towards its mout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 Pro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p sided v-shaped valley. Thin river channel, deep in pla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-shaped valley remains with a wider valley floor and the river begins to meander across it. The river channel begins to widen and become deep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de, shallow valley, with large flood plains and meanders. The river channel is wide, deep and smooth sid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8:29:06Z</dcterms:created>
  <dc:creator>Dell_02</dc:creator>
  <dc:description/>
  <dc:language>en-US</dc:language>
  <cp:lastModifiedBy>Dell_02</cp:lastModifiedBy>
  <dcterms:modified xsi:type="dcterms:W3CDTF">2011-01-26T18:40:12Z</dcterms:modified>
  <cp:revision>2</cp:revision>
  <dc:subject/>
  <dc:title>River Profiles</dc:title>
</cp:coreProperties>
</file>